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E57D4-0B5B-4440-90C6-C508D4123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B4734-56F9-4A1A-9E83-BC29C8252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CD48D-E634-4D2B-8DA8-9E61326A7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83A50-6E19-4487-A067-466203856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5BCB4-A3F7-4DD0-9166-68F5FC256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41E6-9E97-43B6-925E-DB2BC1273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40F59-9D35-4111-A975-1C253C317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551CA-0EA3-490F-8EFB-6F4082514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829F0-5167-4619-983E-852F724F4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B285-3B60-4CE6-8953-871304F3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C29E-E987-477B-BBC1-31C4F457A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8AD41-F5B8-4AB9-8DBF-DB3ED57D3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FF16-A8B6-4DD6-B9EE-AA7CED8BC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ltimateglobes.com/v/vspfiles/map_images/european_claims.gif" TargetMode="External"/><Relationship Id="rId3" Type="http://schemas.openxmlformats.org/officeDocument/2006/relationships/hyperlink" Target="http://www.slideshare.net/ezlee2/the-navigation-acts-presentation"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Yer7OfHyynU"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ffects of the French and Indian W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retta Morovitz</a:t>
            </a:r>
            <a:endParaRPr b="0" lang="en-US" sz="32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Viewpoin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opinion of colonial milit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ud of war rec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 could provide for own defen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mpressed by GB militar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fare methods incompatible with American terrain (woods vs. open field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ward to settling new lands gained from war</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 of these competing viewpoints</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salutary neglec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upied by war and political turmoil in England, GB had little control over daily government in the colon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trade and Navigation Acts to go unenforced</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War debts + cost of maintaining army in colon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ing George III and Whigs turns to colonies for funds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ntiac’s Rebell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63</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est of British Imperial Polic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Pontiac led a major attack against the colonies in response to encroachment of colonial settlements on western fronti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ance of Native Americans in OH Valley destroy settlements – NY </a:t>
            </a:r>
            <a:r>
              <a:rPr b="0" lang="en-US" sz="3200" spc="-1" strike="noStrike">
                <a:solidFill>
                  <a:srgbClr val="000000"/>
                </a:solidFill>
                <a:latin typeface="Wingdings"/>
                <a:ea typeface="Wingdings"/>
              </a:rPr>
              <a:t></a:t>
            </a:r>
            <a:r>
              <a:rPr b="0" lang="en-US" sz="3200" spc="-1" strike="noStrike">
                <a:solidFill>
                  <a:srgbClr val="000000"/>
                </a:solidFill>
                <a:latin typeface="Arial"/>
              </a:rPr>
              <a:t> V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ish respond with British not colonial troop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lamation of 1763</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ibited colonial settlement west of Appalachian Mounta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B hoped this would prevent conflict between Natives and settl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enraged – eager to settle new l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d Proclamation</a:t>
            </a:r>
            <a:endParaRPr b="0" lang="en-US" sz="32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 and Navigation Ac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51, 1660, 1663, 1673</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s to England only on English of colonial-built shi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ws must be English or coloni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exports only to Englan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numerated goo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ly only tobacco, but list later expanded to most colonial expor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ax on certain go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smuggl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salutary neglect-British look the other way, and many British agents = corru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alutary neglect-British take a stronger stance to enforce acts </a:t>
            </a:r>
            <a:r>
              <a:rPr b="0" lang="en-US" sz="2000" spc="-1" strike="noStrike">
                <a:solidFill>
                  <a:srgbClr val="000000"/>
                </a:solidFill>
                <a:latin typeface="Wingdings"/>
                <a:ea typeface="Wingdings"/>
              </a:rPr>
              <a:t></a:t>
            </a:r>
            <a:r>
              <a:rPr b="0" lang="en-US" sz="2000" spc="-1" strike="noStrike">
                <a:solidFill>
                  <a:srgbClr val="000000"/>
                </a:solidFill>
                <a:latin typeface="Arial"/>
              </a:rPr>
              <a:t> 1684 repeal MA Bay charter</a:t>
            </a:r>
            <a:endParaRPr b="0" lang="en-US" sz="20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cts and Taxe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Revenue) Act – 1764</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on sug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money for G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law </a:t>
            </a:r>
            <a:r>
              <a:rPr b="0" lang="en-US" sz="2400" spc="-1" strike="noStrike">
                <a:solidFill>
                  <a:srgbClr val="000000"/>
                </a:solidFill>
                <a:latin typeface="Wingdings"/>
                <a:ea typeface="Wingdings"/>
              </a:rPr>
              <a:t></a:t>
            </a:r>
            <a:r>
              <a:rPr b="0" lang="en-US" sz="2400" spc="-1" strike="noStrike">
                <a:solidFill>
                  <a:srgbClr val="000000"/>
                </a:solidFill>
                <a:latin typeface="Arial"/>
              </a:rPr>
              <a:t> Stricter stance on Navigation Acts – smugglers tried in admiralty courts w/o jur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rtering Act - 1765</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and living for British soldie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mp Act – 1765</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tax</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 stamp on al legal documents, newspapers, ads, and other published pap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IT ALL MEA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ench and Indian War polarized GB and the colo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B in debt – turn to the colonies for financial hel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s and tax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es not happ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a:t>
            </a:r>
            <a:endParaRPr b="0" lang="en-US" sz="32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ultimateglobes.com/v/vspfiles/map_images/european_claims.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slideshare.net/ezlee2/the-navigation-acts-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sco: Preparing for the AP History Exam</a:t>
            </a:r>
            <a:endParaRPr b="0" lang="en-US" sz="32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i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years following the French and Indian War, the period of salutary neglect ended, leading to increased regulations and taxes on the colonies, and further deteriorating relations between the British Empire and her colonies.</a:t>
            </a:r>
            <a:endParaRPr b="0" lang="en-US" sz="32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and Indian W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17</a:t>
            </a:r>
            <a:r>
              <a:rPr b="0" lang="en-US" sz="2800" spc="-1" strike="noStrike" baseline="30000">
                <a:solidFill>
                  <a:srgbClr val="000000"/>
                </a:solidFill>
                <a:latin typeface="Arial"/>
              </a:rPr>
              <a:t>th</a:t>
            </a:r>
            <a:r>
              <a:rPr b="0" lang="en-US" sz="2800" spc="-1" strike="noStrike">
                <a:solidFill>
                  <a:srgbClr val="000000"/>
                </a:solidFill>
                <a:latin typeface="Arial"/>
              </a:rPr>
              <a:t> Cent. = War between French, Spanish, Englis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of wars – worldwide (1689-176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war (fighting begins in colonies and spreads to Europ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nies = French and Indian Wa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 Seven Years’ War</a:t>
            </a:r>
            <a:endParaRPr b="0" lang="en-US" sz="2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r (Cont.)</a:t>
            </a:r>
            <a:endParaRPr b="0" lang="en-US" sz="4400" spc="-1" strike="noStrike">
              <a:solidFill>
                <a:srgbClr val="000000"/>
              </a:solidFill>
              <a:latin typeface="Arial"/>
            </a:endParaRPr>
          </a:p>
        </p:txBody>
      </p:sp>
      <p:sp>
        <p:nvSpPr>
          <p:cNvPr id="4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amp; I War beginn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ish believe French provoke – forts in Ohio River Valle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bad for Britis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ats in Virginia and  Canad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bany Plan of Union – coordinated colonial defense </a:t>
            </a:r>
            <a:r>
              <a:rPr b="0" lang="en-US" sz="2800" spc="-1" strike="noStrike">
                <a:solidFill>
                  <a:srgbClr val="000000"/>
                </a:solidFill>
                <a:latin typeface="Wingdings"/>
                <a:ea typeface="Wingdings"/>
              </a:rPr>
              <a:t></a:t>
            </a:r>
            <a:r>
              <a:rPr b="0" lang="en-US" sz="2800" spc="-1" strike="noStrike">
                <a:solidFill>
                  <a:srgbClr val="000000"/>
                </a:solidFill>
                <a:latin typeface="Arial"/>
              </a:rPr>
              <a:t> precedent for later 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amp; I War En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ion on Canad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ce of Pari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B gets French Canada and Spanish FL.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e gives Spain Louisiana and claims West of Mississippi River</a:t>
            </a:r>
            <a:endParaRPr b="0" lang="en-US" sz="20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youtube.com/watch?v=Yer7OfHyy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imeo.com/42242301</a:t>
            </a:r>
            <a:endParaRPr b="0" lang="en-US" sz="32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F &amp; I War on European Na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hallenged control of North Americ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land east of the Mississippi River, and much of present-day Canad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 nav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threat of attacks by French, Spanish, and Native America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ce &amp; Spa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 gave Florida to GB</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pensate, France gave Spain the Louisiana territor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e left with only islands close to Canada and in the Caribbea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2"/>
          <a:stretch/>
        </p:blipFill>
        <p:spPr>
          <a:xfrm>
            <a:off x="0" y="0"/>
            <a:ext cx="9524880" cy="701532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F &amp; I War on Coloni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my needed suppl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on workers, shipbuilders, and famers profite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es gain F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onger refuge for escaped slav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ands, free from old enemies, open to exploration and settl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 record = sense of unity and pride for colonist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viewpoin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opinion of American milit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ly trai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order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not defend new expanded fronti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colonies did not contribute troops or mon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war deb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4:08:01Z</dcterms:created>
  <dc:creator> </dc:creator>
  <dc:description/>
  <dc:language>en-US</dc:language>
  <cp:lastModifiedBy>epilla</cp:lastModifiedBy>
  <dcterms:modified xsi:type="dcterms:W3CDTF">2012-10-05T17:29:08Z</dcterms:modified>
  <cp:revision>9</cp:revision>
  <dc:subject/>
  <dc:title>Slide 1</dc:title>
</cp:coreProperties>
</file>